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29A53C-01BA-4F24-B99C-FB94EA5576F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0CD5A7-D0BD-48E6-9403-D4AE31799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3865E8-EBA5-4377-A004-BEF5684AD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19038E-13F0-415D-80DE-BE870F7F109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7DC1A6-96BB-4D93-97C2-E1FB77B6E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D29DB9-8DD3-4556-9717-6B813A1AE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33CDD6-9091-40E2-B900-F861F6F28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CEE1A3-636B-4E94-82EC-B1F2C567A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BF3904-E983-481E-8AD4-BF97EC8A5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BA1D07-32D8-4365-9A77-DB45BAEEA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58A06E-1FDC-45A9-B6A1-E093D2EAC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C6A6EF-131E-4D12-804D-A39F58FB0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426E3-6FA9-4F85-989A-3E17A2F4A8E4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51520"/>
              <a:ext cx="9115560" cy="1806120"/>
              <a:chOff x="28440" y="5051520"/>
              <a:chExt cx="9115560" cy="180612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51520"/>
                <a:ext cx="9115560" cy="18061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5152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9640" y="2276640"/>
            <a:ext cx="7561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五章  常见疾病和损伤</a:t>
            </a:r>
            <a:r>
              <a:rPr b="0" lang="zh-CN" sz="4000" spc="-1" strike="noStrike">
                <a:solidFill>
                  <a:srgbClr val="1d1496"/>
                </a:solidFill>
                <a:latin typeface="Verdana"/>
                <a:ea typeface="宋体"/>
              </a:rPr>
              <a:t>的康复</a:t>
            </a:r>
            <a:br>
              <a:rPr sz="4000"/>
            </a:br>
            <a:br>
              <a:rPr sz="40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十四节   冠心病的康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6012000" y="5445000"/>
            <a:ext cx="24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宋体"/>
              </a:rPr>
              <a:t>      </a:t>
            </a:r>
            <a:r>
              <a:rPr b="1" lang="zh-CN" sz="3200" spc="-1" strike="noStrike">
                <a:solidFill>
                  <a:srgbClr val="1d1496"/>
                </a:solidFill>
                <a:latin typeface="Arial"/>
                <a:ea typeface="宋体"/>
              </a:rPr>
              <a:t>郭非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533520" y="105264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Ⅰ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期康复的</a:t>
            </a:r>
            <a:r>
              <a:rPr b="1" lang="zh-CN" sz="2400" spc="-1" strike="noStrike">
                <a:solidFill>
                  <a:srgbClr val="fe6ade"/>
                </a:solidFill>
                <a:latin typeface="Verdana"/>
                <a:ea typeface="宋体"/>
              </a:rPr>
              <a:t>目标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防止废用，避免长期卧床产生的并发症如体力下降、直立性低血压、关节挛缩僵硬、血栓性静脉炎等；改善心理状态，树立信心，改善体力，达到生活自理，缩短住院时间，早日恢复工作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6" name="Picture 6" descr="F:\baidu download\01300000285965122657163522513.jpg"/>
          <p:cNvPicPr/>
          <p:nvPr/>
        </p:nvPicPr>
        <p:blipFill>
          <a:blip r:embed="rId1"/>
          <a:stretch/>
        </p:blipFill>
        <p:spPr>
          <a:xfrm>
            <a:off x="3203640" y="3429000"/>
            <a:ext cx="3120840" cy="31212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康复治疗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注意事项：所有康复活动必须有医务人员在场，备有心脏急救设备。每项活动前及活动后必须进行血压、脉搏和心电监测，观察患者的症状和体征。患者上下楼梯和步行时要有医务人员陪伴。早期的活动从低负荷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个</a:t>
            </a:r>
            <a:r>
              <a:rPr b="1" lang="en-US" sz="2800" spc="-1" strike="noStrike">
                <a:solidFill>
                  <a:srgbClr val="fe6ade"/>
                </a:solidFill>
                <a:latin typeface="Verdana"/>
                <a:ea typeface="宋体"/>
              </a:rPr>
              <a:t>MET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开始，逐渐增加运动，以等张低强度为原则，避免等长性活动，一般病情稳定没有并发症者，在病后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周作低水平的运动试验，活动量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个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MET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水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康复治疗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8ac8de"/>
              </a:solidFill>
              <a:latin typeface="Verdana"/>
              <a:ea typeface="宋体"/>
            </a:endParaRPr>
          </a:p>
        </p:txBody>
      </p:sp>
      <p:pic>
        <p:nvPicPr>
          <p:cNvPr id="132" name="Picture 4" descr="u=3299644562,880909932&amp;fm=23&amp;gp=0"/>
          <p:cNvPicPr/>
          <p:nvPr/>
        </p:nvPicPr>
        <p:blipFill>
          <a:blip r:embed="rId1"/>
          <a:stretch/>
        </p:blipFill>
        <p:spPr>
          <a:xfrm>
            <a:off x="1258920" y="1628640"/>
            <a:ext cx="6192720" cy="424836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康复治疗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Ⅱ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期康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此期是恢复期，在门诊或家庭完成康复活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康复</a:t>
            </a:r>
            <a:r>
              <a:rPr b="1" lang="zh-CN" sz="2800" spc="-1" strike="noStrike">
                <a:solidFill>
                  <a:srgbClr val="fe6ade"/>
                </a:solidFill>
                <a:latin typeface="Verdana"/>
                <a:ea typeface="宋体"/>
              </a:rPr>
              <a:t>目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是使患者适应出院后的生活，恢复一般日常生活活动能力，恢复心脏功能和体力，保持信心，安定情绪，提高生活质量和适应社会的能力。在病后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8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周可以作症状限制性运动试验，心脏功能可以达到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个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MET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水平，患者可以恢复中等体力劳动的工作。低于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个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MET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的患者不能恢复工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康复治疗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4" descr="u=1711370528,4284929209&amp;fm=15&amp;gp=0"/>
          <p:cNvPicPr/>
          <p:nvPr/>
        </p:nvPicPr>
        <p:blipFill>
          <a:blip r:embed="rId1"/>
          <a:stretch/>
        </p:blipFill>
        <p:spPr>
          <a:xfrm>
            <a:off x="468360" y="1268280"/>
            <a:ext cx="8280360" cy="504036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康复治疗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Ⅲ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期康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此期康复可以在康复中心或社区内完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康复</a:t>
            </a:r>
            <a:r>
              <a:rPr b="1" lang="zh-CN" sz="2800" spc="-1" strike="noStrike">
                <a:solidFill>
                  <a:srgbClr val="fe6ade"/>
                </a:solidFill>
                <a:latin typeface="Verdana"/>
                <a:ea typeface="宋体"/>
              </a:rPr>
              <a:t>目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是增加心血管功能，巩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Ⅱ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期的康复效果，保持健康的生活方式，恢复病前的工作。运动方式以</a:t>
            </a:r>
            <a:r>
              <a:rPr b="1" lang="zh-CN" sz="2800" spc="-1" strike="noStrike">
                <a:solidFill>
                  <a:srgbClr val="fe6ade"/>
                </a:solidFill>
                <a:latin typeface="Verdana"/>
                <a:ea typeface="宋体"/>
              </a:rPr>
              <a:t>有氧训练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为基本方法。改善肌力和耐力，可以进行散步、骑自行车、游泳、登山、医疗体操等。运动强度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60%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80%HRmax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运动持续时间每次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6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秒，运动前做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秒的热身运动，运动结束做放松运动。运动频率采取每周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康复治疗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4" descr=""/>
          <p:cNvPicPr/>
          <p:nvPr/>
        </p:nvPicPr>
        <p:blipFill>
          <a:blip r:embed="rId1"/>
          <a:stretch/>
        </p:blipFill>
        <p:spPr>
          <a:xfrm>
            <a:off x="684360" y="1413000"/>
            <a:ext cx="7559640" cy="446400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康复治疗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66320" y="47592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五、康复教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宣传冠心病的危险因素、发病机制、发展过程，急性发病的预防措施，在冠心病监护室的治疗程序、心电监护、药物治疗、肢体康复运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让患者了解每个时期康复的目标、康复的内容、注意事项等，制订出院后的保健计划、运动处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控制冠心病的</a:t>
            </a:r>
            <a:r>
              <a:rPr b="1" lang="zh-CN" sz="2800" spc="-1" strike="noStrike">
                <a:solidFill>
                  <a:srgbClr val="fe6ade"/>
                </a:solidFill>
                <a:latin typeface="Verdana"/>
                <a:ea typeface="宋体"/>
              </a:rPr>
              <a:t>危险因素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积极治疗高血脂、高血压、糖尿病，养成良好的生活习惯，戒烟、戒酒，饮食体重控制，保持乐观心态，坚持适当的有氧健身运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6" name="Picture 2" descr="F:\baidu download\6993609_144343292389_2.jpg"/>
          <p:cNvPicPr/>
          <p:nvPr/>
        </p:nvPicPr>
        <p:blipFill>
          <a:blip r:embed="rId1"/>
          <a:stretch/>
        </p:blipFill>
        <p:spPr>
          <a:xfrm>
            <a:off x="1835280" y="260280"/>
            <a:ext cx="5761080" cy="619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8ac8de"/>
              </a:solidFill>
              <a:latin typeface="Verdana"/>
              <a:ea typeface="宋体"/>
            </a:endParaRPr>
          </a:p>
        </p:txBody>
      </p:sp>
      <p:pic>
        <p:nvPicPr>
          <p:cNvPr id="148" name="Picture 4" descr="u=465317815,1843221408&amp;fm=23&amp;gp=0"/>
          <p:cNvPicPr/>
          <p:nvPr/>
        </p:nvPicPr>
        <p:blipFill>
          <a:blip r:embed="rId1"/>
          <a:stretch/>
        </p:blipFill>
        <p:spPr>
          <a:xfrm>
            <a:off x="900000" y="1413000"/>
            <a:ext cx="7632720" cy="468000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五、康复教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99640" y="549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冠状动脉粥样硬化性心脏病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oronary atherosclerotic heart diseas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简称冠心病，是由于冠状动脉粥样硬化使血管管腔狭窄或阻塞，导致心肌缺血、缺氧或坏死而引起的心脏病，是当今威胁人类健康的主要疾病之一。流行病学调查表明，在我国冠心病发病率和死亡率有逐年上升的趋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09" name="Picture 6" descr="F:\baidu download\01300000026741120572707219863.jpg"/>
          <p:cNvPicPr/>
          <p:nvPr/>
        </p:nvPicPr>
        <p:blipFill>
          <a:blip r:embed="rId1"/>
          <a:stretch/>
        </p:blipFill>
        <p:spPr>
          <a:xfrm>
            <a:off x="3132000" y="4076640"/>
            <a:ext cx="3333960" cy="25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随着康复医学的发展，近年来对冠心病的康复治疗积累了丰富的经验。世界卫生组织专家组认为，康复是所有心脏病病人治疗中的一个重要部分，其</a:t>
            </a:r>
            <a:r>
              <a:rPr b="1" lang="zh-CN" sz="2800" spc="-1" strike="noStrike">
                <a:solidFill>
                  <a:srgbClr val="fe6ade"/>
                </a:solidFill>
                <a:latin typeface="Verdana"/>
                <a:ea typeface="宋体"/>
              </a:rPr>
              <a:t>目的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在于改善功能储备，减轻或减少与活动有关的症状，减少不应有的残疾，使心脏病病人重新对社会有用并从中得到自我满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冠心病的</a:t>
            </a:r>
            <a:r>
              <a:rPr b="1" lang="zh-CN" sz="2800" spc="-1" strike="noStrike">
                <a:solidFill>
                  <a:srgbClr val="fe6ade"/>
                </a:solidFill>
                <a:latin typeface="Verdana"/>
                <a:ea typeface="宋体"/>
              </a:rPr>
              <a:t>康复对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心肌梗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稳定型心绞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隐匿型冠心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冠状动脉旁路移植术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经皮冠状动脉腔内成形术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3" name="Picture 5" descr="http://photocdn.sohu.com/20110829/Img317663551.jpg"/>
          <p:cNvPicPr/>
          <p:nvPr/>
        </p:nvPicPr>
        <p:blipFill>
          <a:blip r:embed="rId1"/>
          <a:stretch/>
        </p:blipFill>
        <p:spPr>
          <a:xfrm>
            <a:off x="5364000" y="2349360"/>
            <a:ext cx="2857680" cy="271476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71640" y="40464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主要功能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心功能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呼吸功能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运动能力和耐力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代谢功能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心理、行为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71640" y="47592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康复评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冠心病的功能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动态心电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超声心动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血压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血清酶学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心电运动试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心功能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26560" y="40464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康复治疗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冠心病的康复治疗措施主要是通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一）运动疗法的有氧耐力训练和循环式力量训练（二）职业运动或作业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三）娱乐活动及心理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四）急性心肌梗死的康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急性心肌梗死的七步康复程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急性心肌梗死康复中的危险分组指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急性心肌梗死的三阶段康复计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康复治疗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急性心肌梗死的康复计划一般分为</a:t>
            </a:r>
            <a:r>
              <a:rPr b="1" lang="zh-CN" sz="2800" spc="-1" strike="noStrike">
                <a:solidFill>
                  <a:srgbClr val="fe6ade"/>
                </a:solidFill>
                <a:latin typeface="Verdana"/>
                <a:ea typeface="宋体"/>
              </a:rPr>
              <a:t>三个阶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Ⅰ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期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: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住院期康复，包括心肌梗死急性期在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CU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和普通病房两个阶段的康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Ⅱ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期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: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门诊或家庭康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Ⅲ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期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: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长期社区或家庭康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康复治疗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药蓉</cp:lastModifiedBy>
  <dcterms:modified xsi:type="dcterms:W3CDTF">2015-05-26T06:57:29Z</dcterms:modified>
  <cp:revision>100</cp:revision>
  <dc:subject/>
  <dc:title>内科护理学</dc:title>
</cp:coreProperties>
</file>